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5A2-A9CA-41B4-ACCD-1CBDE56A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B2C-4B46-49CC-BA87-010135DD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B00-E252-4AF5-B521-93742C6D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FB2-D4F2-40CA-B2AE-ABC5F176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46A-52E7-4EB3-B763-0BE0017C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B40-1659-4C0D-9600-5DE500BC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F79-3B51-4F48-962D-8A25F714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0D5-F50E-4268-A844-5D147846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854-8E27-4929-9805-B1682146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E6E-CF8A-40E4-A7B8-0EF69B71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701-70FE-4E0C-9E57-9F64F26D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3A6-A847-4738-9733-871D213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0D0E-04A1-4256-8BFF-4DCB22C05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BRAISED LAMB SHANK ROSEMARY &amp; GARLIC GR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SERVED ON A BED OF MASH GARLIC CLOVES &amp; FRESH ROSEMARY €13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HOMEMADE BEEF LAS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SERVED WITH CHIPS &amp; SALAD  €11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ROAST SIRLOIN BEEF YORKSHIRE PU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RED WINE GRAVY SEASONAL VEG &amp; POTATOES  €12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ROAST STUFFED BREAST CHIC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SEASONAL VEG &amp; POTATOES  €12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HEFS SPECIAL OF THE DAY €12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(ASK WAITING STA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-2269080" y="306864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UNDAY SPECIA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5868360" y="306864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UNDAY SPECIA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19280" y="260280"/>
            <a:ext cx="6049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7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UNDAY SPECIALS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1:51:54Z</dcterms:created>
  <dc:creator>Jack McNamee</dc:creator>
  <dc:description/>
  <dc:language>en-US</dc:language>
  <cp:lastModifiedBy>Administrator</cp:lastModifiedBy>
  <cp:lastPrinted>2010-10-14T13:00:31Z</cp:lastPrinted>
  <dcterms:modified xsi:type="dcterms:W3CDTF">2016-11-02T20:49:10Z</dcterms:modified>
  <cp:revision>15</cp:revision>
  <dc:subject/>
  <dc:title>SUNDAY </dc:title>
</cp:coreProperties>
</file>