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988C-2FAF-4487-A792-FD674466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C1C0-CEE1-4196-BA45-D14236B8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D954-5D14-4A81-B0F2-4C2C702B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1E58-AC4E-4064-B57F-D82A1152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373E-849C-43B8-A5DE-51C9F802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BFC6-A443-46FC-901C-3D603BD6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8997-EB35-45B2-8B7C-F893C478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3233-980A-4AD7-8259-AC06D529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C86B-99F0-425B-BBB1-737C1EDC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C9A9-CAF8-4B2B-9BD7-6FB0B6F2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355E-089B-401E-B8BD-5EE5E760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02E2-5A19-4B9F-8F8C-899B7C12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595B-A833-4422-AB2E-65041E5DE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000" y="1267920"/>
            <a:ext cx="79930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BRAISED LAMB SHANK ROSEMARY &amp; GARLIC GR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SERVED ON A BED OF MASH GARLIC CLOVES &amp; FRESH ROSEMARY €13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HOMEMADE BEEF LAS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SERVED WITH CHIPS &amp; SALAD  €11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ROAST SIRLOIN BEEF YORKSHIRE PU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RED WINE GRAVY SEASONAL VEG &amp; POTATOES  €12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ROAST STUFFED BREAST CHICK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SEASONAL VEG &amp; POTATOES  €12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CHEFS SPECIAL OF THE DAY €12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(ASK WAITING STAF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5400000">
            <a:off x="-2269080" y="3068640"/>
            <a:ext cx="55436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SUNDAY SPECIAL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5868360" y="3068640"/>
            <a:ext cx="55436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SUNDAY SPECIAL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619280" y="260280"/>
            <a:ext cx="6049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7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UNDAY SPECIALS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1:51:54Z</dcterms:created>
  <dc:creator>Jack McNamee</dc:creator>
  <dc:description/>
  <dc:language>en-US</dc:language>
  <cp:lastModifiedBy>Administrator</cp:lastModifiedBy>
  <cp:lastPrinted>2010-10-14T13:00:31Z</cp:lastPrinted>
  <dcterms:modified xsi:type="dcterms:W3CDTF">2016-11-02T20:49:10Z</dcterms:modified>
  <cp:revision>15</cp:revision>
  <dc:subject/>
  <dc:title>SUNDAY </dc:title>
</cp:coreProperties>
</file>