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3DE-76BA-4961-AAE0-70FEE817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DA9-8AB4-442F-9C42-64724EF4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9E5-35AB-4179-9F1B-AB79F3DF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BED-3E21-4E8E-868B-F2AF0287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0C6-2792-42DA-908F-D2E6F9B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A8A-DAEF-4386-96A2-0C89D93B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D05-AA40-434E-9E9D-D53FF7E8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383-817A-432E-8E47-382C709A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96F-9982-4E73-B76D-7FD62B56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F60-669D-4ADA-B087-EFDCED2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E1A-CA80-4092-BD56-4581A68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2EA-9076-4972-AD3D-E0C1914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3EE7-7650-4165-B5FB-D1C746EB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05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PROFRITEROLES FILLED WITH FRESH CR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TOPPED WITH CHOCOLATE SA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STEAMY HOT STICKY TOFFEE PUD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SERVED WITH VANILLA ICE-CREAM DUSTED WITH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HOMEMADE FRUIT PAVL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TOPPED WITH FRESH CREAM ,FRUIT &amp; STRAWBERRY SA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WARMED DEEP APPLE PIE / APPLE CRU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SERVED WITH FRESH CREAM AND A DUSTING OF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BANANA SPLIT SERVED WITH 3 ICE-CREAM FLAV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TOPPED WITH FRESH CREAM, CHOCOLATE SAUCE DUSTED WITH CHOCOLATE POW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WARMED CHOCOLATE FUDGE CAKE &amp; 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BAILEYS CHEESECAKE &amp; CR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HOMEMADE RASPBERRY ETON M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</a:rPr>
              <a:t>PANCAKES  NUTELLA  &amp; ICE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5400000">
            <a:off x="-1657080" y="332172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DESSERTS €5.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5"/>
          <p:cNvSpPr txBox="1"/>
          <p:nvPr/>
        </p:nvSpPr>
        <p:spPr>
          <a:xfrm rot="5400000">
            <a:off x="5974920" y="324936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DESSERTS €5.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2050920" y="549360"/>
            <a:ext cx="4826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ESSERTS €5.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2:35:45Z</dcterms:created>
  <dc:creator>Jack McNamee</dc:creator>
  <dc:description/>
  <dc:language>en-US</dc:language>
  <cp:lastModifiedBy>Jack Mcnamee</cp:lastModifiedBy>
  <cp:lastPrinted>2017-01-19T10:48:21Z</cp:lastPrinted>
  <dcterms:modified xsi:type="dcterms:W3CDTF">2017-01-21T19:18:27Z</dcterms:modified>
  <cp:revision>13</cp:revision>
  <dc:subject/>
  <dc:title>Slide 1</dc:title>
</cp:coreProperties>
</file>