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AA9F-CB3B-4E80-B3BE-C76781D4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1862-26F2-45F3-96E8-7827E28D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EB2F-EE54-47F5-9891-A8B9BE83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80D4-84AC-4870-89FA-30D634EC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C71F-FB08-4366-97DF-4E7DEE7A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260E-BE3F-4D90-8B70-C9416BC8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3472-D23C-4315-81D8-54441534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E881-85B6-4805-95E3-7E072C82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3E2A-561A-41BF-99F2-2E5D7087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04F0-A91E-445C-B1B1-79B0F595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9C4F-33C4-41A8-9282-307781AA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6023-0615-4639-B14A-C362957C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3BCD-3B47-480F-8C45-59E71288B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000" y="1267920"/>
            <a:ext cx="79930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BRAISED LAMB SHANK ROSEMARY &amp; GARLIC GR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SERVED ON A BED OF MASH GARLIC CLOVES &amp; FRESH ROSEMARY €13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HOMEMADE BEEF LAS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SERVED WITH CHIPS &amp; SALAD  €11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ROAST SIRLOIN BEEF YORKSHIRE PU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RED WINE GRAVY SEASONAL VEG &amp; POTATOES  €12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ROAST STUFFED BREAST CHICK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SEASONAL VEG &amp; POTATOES  €12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CHEFS SPECIAL OF THE DAY €12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(ASK WAITING STAF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5400000">
            <a:off x="-2269080" y="3068640"/>
            <a:ext cx="55436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SUNDAY SPECIAL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 rot="5400000">
            <a:off x="5868360" y="3068640"/>
            <a:ext cx="55436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SUNDAY SPECIAL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619280" y="260280"/>
            <a:ext cx="6049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7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UNDAY SPECIALS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1:51:54Z</dcterms:created>
  <dc:creator>Jack McNamee</dc:creator>
  <dc:description/>
  <dc:language>en-US</dc:language>
  <cp:lastModifiedBy>Administrator</cp:lastModifiedBy>
  <cp:lastPrinted>2010-10-14T13:00:31Z</cp:lastPrinted>
  <dcterms:modified xsi:type="dcterms:W3CDTF">2016-11-02T20:49:10Z</dcterms:modified>
  <cp:revision>15</cp:revision>
  <dc:subject/>
  <dc:title>SUNDAY </dc:title>
</cp:coreProperties>
</file>