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2B5-D1CC-43B1-9472-8660603D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5DC-E2CC-4199-834B-0CC1E5A6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DBA-D03D-4B49-AFB4-3C66E0D4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236-9F49-43BF-98C5-9BD33BF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5DB-4A6C-475F-83B5-F86927CC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21F-309E-4778-BC5C-407D6E2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30F-D393-48F5-8BBE-33DBCDF5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C0A-269B-4B1E-AB38-AC40FD1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1C6-7E60-42A6-A8E1-CF5BDC5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905-81C5-4A7C-B2A6-5999440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9E2-6EB4-4845-B032-EB80C5F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630-6EE3-490C-8230-FBE1197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F39-99CF-42C1-8C28-585CEA5B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PROFRITEROLES FILLED WITH FRESH CR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CHOCOLATE SA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TEAMY HOT STICKY TOFFEE PU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ERVED WITH VANILLA ICE-CREAM DUSTED WITH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HOMEMADE FRUIT PAVL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FRESH CREAM ,FRUIT &amp; STRAWBERRY SA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WARMED DEEP APPLE PIE / APPLE CRU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ERVED WITH FRESH CREAM AND A DUSTING OF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ANANA SPLIT SERVED WITH 3 ICE-CREAM FLAV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FRESH CREAM, CHOCOLATE SAUCE DUSTED WITH CHOCOLATE POW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WARMED CHOCOLATE FUDGE CAKE &amp; 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AILEYS CHEESECAKE &amp; CR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HOMEMADE RASPBERRY ETON M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PANCAKES  NUTELLA  &amp; ICE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5400000">
            <a:off x="-1657080" y="332172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DESSERTS €5.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5"/>
          <p:cNvSpPr txBox="1"/>
          <p:nvPr/>
        </p:nvSpPr>
        <p:spPr>
          <a:xfrm rot="5400000">
            <a:off x="5974920" y="324936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DESSERTS €5.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2050920" y="549360"/>
            <a:ext cx="4826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ESSERTS €5.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2:35:45Z</dcterms:created>
  <dc:creator>Jack McNamee</dc:creator>
  <dc:description/>
  <dc:language>en-US</dc:language>
  <cp:lastModifiedBy>Jack Mcnamee</cp:lastModifiedBy>
  <cp:lastPrinted>2017-01-19T10:48:21Z</cp:lastPrinted>
  <dcterms:modified xsi:type="dcterms:W3CDTF">2017-01-21T19:18:27Z</dcterms:modified>
  <cp:revision>13</cp:revision>
  <dc:subject/>
  <dc:title>Slide 1</dc:title>
</cp:coreProperties>
</file>